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2AF-43ED-4152-8D27-A18F9E31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764-2468-4C2A-BD67-2BBDFD78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987FD-1BE1-4801-A782-63FDEAD4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C77D-BE7E-4D1B-A6EA-22B748E8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0E5A2-E69D-4E65-BB14-5364646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E3D6-C507-4F08-A405-DC20718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22E6-B681-4650-9229-AF781FA8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44401-397E-49A8-980A-F3B5EEF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8110-98BD-46D5-8C29-155336C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B0543-D83B-45D1-B17F-95C320B1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CC1E-EBA1-4B74-8757-01274821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598B4-4817-4DF3-8E1C-6380B047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736-6E42-4E1B-908B-CADD2CCD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9C37-1706-4ACC-B46B-E5525C8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5B82A-7C06-4229-9553-47DE285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C74A-3701-4A9D-A3D7-3C68E9EF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7448E-613C-448E-8891-88EFB1F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CA706-63AC-418E-BF14-AF4B03D2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CC79-FBA8-4B02-8F90-360AED1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8DF03-F87D-41D7-94BB-961FF03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6A18-8887-4DAA-907D-8B8BDBE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94912-0776-475C-BF72-D49AA7E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AF834-C5CF-4CD4-A009-C606003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EBC-CEBE-4375-B080-147B86FB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B001B-02E8-4FFF-8423-8285F1F6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D4786-E2E4-44B0-BBE3-C274B192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2A80B-DF71-4B68-A78C-E6A1F20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F6B9E-F885-4C0E-96E1-333E048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042D2-6E0E-4FDF-B234-6E7C0C44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0245-C0CF-4289-B915-9828B8C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D68D4-C97F-4331-BA93-717756C7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7604D-378F-4852-B355-A208141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4A1BE-7E57-48F3-BBC5-45B38AC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1ADC-40E5-4D4E-A541-2F95B25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3CA5-7D26-4AE9-9139-FD190FBF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349A-B2EA-402B-8742-D7733A64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40807-C543-4123-B2CF-291951A5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5C0F3-FEE8-4947-87B1-88461C7E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013E1-3C36-4496-AF51-CACBED73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5EA72-877F-4E1F-B108-0C27090F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9A010-FBC2-422C-ADF2-8CF9811D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A5A4-49AE-422E-BA14-45B8B522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4A765-D64E-42D2-9133-90A773E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CAD00-F4D4-462F-BC92-F65A740E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BA94F-4CEA-47A4-B563-ED7C1D5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E60D-2B8E-406D-B5D1-497D90F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E8DB5-CF1E-4E10-AE75-DFBEB6F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44F7F-E4C3-49A6-AB11-9838E56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BA235-0544-4DC3-9ADA-5B1F165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AD461-45F2-42B0-B4EE-82F95481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F9B9A-BE14-4C7D-9B31-38D05224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AE97B-9707-4B15-A1AB-45BA2CCE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F4877-7188-4B99-99E7-43EDDA9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5C223-78AD-463A-BD2D-46A4C071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FBFD6-1748-4296-8C09-E8EBA6D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66E26-908D-4463-AD8F-90CAFB49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B121-91A1-4701-9526-6EBF59E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012E8-D8A8-4962-842E-B27D9C0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6C7ED-BBF6-4260-8B38-F3C3461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DB760-515C-4F3C-8D41-8A1702C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5CA45-E278-4747-9959-0D6872DA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504BF-6413-41C8-B90A-868A7269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C68F8-4DB4-4B74-9C52-77FF229D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2D2A9-926C-4FE1-8BE4-6DDB53BB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C6227-FFB3-415F-949E-14E7D8AA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D6ABE-4369-43F8-BF41-5E63AC5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02846-60A8-4DD2-837B-49EC887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0EAF-AD35-46C6-B7FA-FB808464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8BDDB-8386-481D-9BCA-728F454E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1C69B-BAE4-4CA9-8928-1A8ED96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B682E-C625-46C3-899D-A14D8256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93261-B900-4777-BC2B-16B8391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C5D7E-35EC-45D3-B285-B4E14D48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3E4F6-EC27-4DA5-857F-C09EC86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F311D-6166-4DCC-8187-B13802E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81C60-B46B-481B-AD1A-6684AA4E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4714F-CDF6-43E5-9F49-17374BFA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1989B-80AE-4417-8653-24EC46C8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8B2C-A57E-437B-9CB6-D94A7B19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EC947-A068-4BD9-B07A-5A0A1B58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62191-4692-479A-B7D6-6BA9F587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442A8-EB57-434A-8FE1-BFF59413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6F284-EAC4-4449-A20F-376D015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8A43B-2EA7-4DA4-BF76-CD4A09C9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36AC1-10BA-4D4A-BF37-DAE1CEA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9AF91-3E3A-4730-9166-B7C111E7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58476-5325-4307-9D8E-B676B13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C0157-2D99-40E0-8BBE-16F2FCAE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A9131-DE79-49CF-9053-2B3E03B9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9A8B-5808-485B-9656-34077504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9E101-8ED0-453D-9932-DC49EA83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AF1B7-DDDD-41AE-BCF0-CD98F488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DAE56-B190-42FF-8D46-0569E8E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7E2C8-E1C0-498A-B57F-672EFCC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93DED-BA49-417B-B1F8-B2429C82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3552D-F33B-4C99-8CA0-80E30F1B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18C25-8DFB-4748-A806-DE7604F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D24C9-BE33-408C-A201-3415B98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34717-EE79-4860-A601-E38FC1F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471CE-4661-4219-8074-40DD2CE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7B8D-128D-4A32-9584-B5C832E0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AA135-FED4-4A88-9354-2561AC8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C4C38-F317-4422-8478-D440672E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5C24E-FAF1-497C-AC92-87ACD0E3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B311C-56F9-4294-82E4-44A4F4E8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9FB433-4F7B-4A63-A2A6-8816FC2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6AB1B-25C0-448D-8954-3C15A31C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38598-22C5-495F-AAE7-DD9B202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CF5AE-A9B9-4C6A-99A9-0476AF8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5CCB3-6744-4D13-852B-74F9BF52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466DC-33FD-4B8C-A3FF-4E14F257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820-1386-4712-B167-6B080C7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EC7D-0CEE-42B1-B6A4-17D1819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2451D-9690-4192-BA17-22AFB36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000D3-D2CF-4B05-BBA9-2B5412B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1407E-3723-4811-9493-D23DA63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203C8-F381-4F79-80B6-1D4C34DF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623F0-C9EC-4CBF-80B1-0D2283F4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2CF36-9A61-40E2-A7AD-F6C08968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22E14-97E7-4D72-9828-23F1E99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86B3F-AA8B-48BA-9F96-C4662AC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3DA50-FC6F-4838-A957-AE9464F0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EE5C7-70C2-420B-A078-ABE0512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A61-6810-4BBB-A38E-099C3BF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54E32-43E4-42E3-A469-57FE8B3A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6BED1-AB74-42DA-A1D0-14C26B1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03C15-BF65-4363-BEE2-EB59EB13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5547B-7FEE-4099-8B3B-94ED559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A76A1-8764-4007-82EF-CA0512E0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4B4F5A-59EC-4053-A477-A7E141CB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BA049-F91C-42B3-8FB2-925A1B41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8197C-EEDE-45F2-9CC0-847B36DA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49593-9DB9-4410-A3C0-465BFAD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216C2-7EDE-4942-AA56-DBFE31D1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043-23E2-4E71-9B61-551EFA5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02B6A-58AA-4426-BB94-89B804D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0484F-DB93-4E72-95F6-A99564B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1F004-40E6-4AC7-93A4-A07E6BC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73B6B-AC56-49BD-B037-31EBB6A6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632E3-8384-49BC-8ED6-9C3D144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454FD-B683-48A5-9161-2919C23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3D148-CD3A-4216-8944-256209F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ABACA-830B-49CF-BC17-431C840A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97569-CB42-4C55-BE6A-2A1DBF7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B367C2-0311-4F3E-9C13-3E22BD39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B8AA-E6D4-4963-87BC-06FF89D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5D965-20C6-4FB3-BD9E-7EE3DC4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FA6AA-11EB-454B-A7C7-83F7094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70A06-E5FB-4394-8082-88BF18FC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DC39B-B911-4F43-BD8A-42B7189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62E10-FD3B-480F-B806-79A3C014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E3B6F-3BBC-4922-B12C-CBCDF1B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2A899-8575-4D43-83DD-D318C76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27518A-A08F-4E86-913D-CF5791F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94530-6A4A-4E9F-B2AB-743C90A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E2B62-31AB-46DF-B86C-A0C9E408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ECD-839F-4258-AC43-BEAE096E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30FF1-1FFB-4EB0-A251-4241E078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F7CB8-136C-4562-AA8A-81643E71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A6DA7-27D8-4963-9A51-9EA7D89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F685C-26CC-45F6-96D1-DE80F21B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3E434-AC70-4134-BAE6-6255A138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7693E-5D26-4A6E-AC95-BB28B520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4A63E-4006-4444-8D5F-062E967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47EB3-D687-4BF2-8B67-612E670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F340C-0FBE-41B7-92B8-1BF049B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0B59B-1AF8-4755-AB39-A3DB6F1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8074-2D4D-4B4D-84D1-D2BDBEFC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7C36D-EE6D-473B-8950-DC4EA47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0B0CC-6521-48E2-9A64-B3D7D7E4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7BA1A-1FDA-4268-AA3B-D790AE7B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797402-5BC4-4C5C-B7DB-3E37E7CB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740D8-F92A-439F-9ABF-333D0A6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38B573-78CB-484B-8F5C-B4BC1CE5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7405D-7BCE-4EDF-B768-55433B5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B57C5-5AF5-49E2-BD01-A46F895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3BD28-F58F-4E5C-9410-D8587FE0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7453A-EC13-4602-949C-5F0116C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39D5-9ABC-4191-8B8F-C17083A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D5769-BC5F-4393-BB7D-E56101D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1DFB0-0E9A-4346-AA27-F568129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371C8-5EAC-4623-A2B1-2681159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FAE35-FE99-44C9-A420-F9B475AD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D7204-F903-4C09-8C58-2CE4DD32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BFB50A-64A2-4649-8749-46C9F746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A13F2-F605-425E-8FCA-83FADBDC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05FC2-74CA-4892-A10B-FD243E1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26D92-8CE8-4752-849B-FBE16D9D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03DE6-0AC6-4E6D-B512-7F8CC54C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855F-EFD3-4187-B9B5-E03BA17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53D00-F3A7-42BB-AD1E-8E66209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D9F57-95F3-457C-8A01-0BC0AD2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82998-6511-4019-A1B9-3B0A1A5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8B15D6-7214-4600-992F-5E9B127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F66A4B-E356-40E1-B650-00CBD2BC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3E73A-3EC5-44EF-BD1F-0255691A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4C6A4-1586-4211-8F48-27538E38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B2E7-A760-4786-8CC0-3E70A95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CD34-7ECF-4081-82E8-D984D5D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61E-FA5C-46DC-91AE-6C2F79A2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82CC-F4BE-48FB-939D-1486CE1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533A-86A4-4C53-86AB-D19EE2E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A667-351C-46DA-AF72-8B7AF6E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F09A-0DC1-43EB-8FC2-51A4772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B513-26A7-4EE2-B0B5-CA77C340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2FF4-8759-4525-A3E4-1BBA8B02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A94A-4E9C-4E93-AE50-46D8F83E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F175-460D-43F6-B93F-17BB7810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E055-C437-4EA7-BFC7-7B22C72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F921-1067-41F4-9A8C-7CBCBDF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06A-32BF-4B96-94B3-0A9BE2A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1D9EA-B90A-48C0-9BC4-DB33528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4CDB-1AB1-45D3-9401-B3C5F6F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6CAD-88AA-4F88-901C-B967F3EE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1D31-2093-497E-8A6C-FE581E47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B6A6-A934-44F9-A17F-32BEEE17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012C-30FB-4201-8A45-936C85C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26F6-DA79-4466-9442-19A7F2D7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4A8B-A318-4AA9-B987-EAE64439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75AF-531C-4412-8B11-BE1A390C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1D33-E649-4394-BD3F-59E85D5B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AA6-4AFD-4036-8EF1-D12E81D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9638-D3AA-4644-B65A-FB020469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FE13-784D-421B-804B-1C763B4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616D-9437-4BE0-A7CA-A8C67AA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88F4-3109-4ACC-8A4A-A95D08E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3E67-FB88-4165-B363-841A9533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8194-3132-480A-ACD0-BA7A9B6B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BA11-CD28-456C-AED3-1D41946D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4664-3D15-4D82-BEF3-513DBDF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14A2-80B2-4D3D-BE35-9478DB10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8DBB-7697-4C89-973D-3711B387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BDE-8A32-4338-AC97-77A1161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8542-34A0-448F-9D54-C35CD7A5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C3E6-8C91-42C3-B1DB-D071A0F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4DA95-A957-42DB-9048-E554141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3B096-702C-4EFE-9B4D-6F8123B5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E9802-572F-4922-BED6-2708BE3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FCD22-3F66-4D29-94E4-12EFC9F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8F34C-6571-4F72-9F9B-94007DF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2937-A5A6-4723-86BF-33D263B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729F-ED47-49E1-9C14-7EB6BB7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F49C5-6DB3-4BB2-9645-532F604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8A3-E3E7-49ED-9E36-7988958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23A9-D661-4395-8D61-5596E8D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537F-F38B-46CF-96A2-98DF30A0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52D6-FA70-4D13-9172-709EB5B5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1934-A2F8-43D8-B93C-527F967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CA4D-5BC5-4275-B0DE-53BC2275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E54A-74EF-440B-BAC1-727E123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521D1-E1D9-49FE-90D7-1AF6052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5591-E0D3-4F30-A749-E8EC3A9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76E4-C4B1-49C0-B34B-14D2FBE8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2AED-37C6-4355-83F9-DD0DE3C4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CD2-277A-4D16-9089-5BADF46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76E7-7A4C-4CC2-BF58-06137182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CDC1-7933-4375-A074-6229BA6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96AF-B20F-4008-8AE8-9F593E7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6DE3-0287-4228-B4A2-8B05C610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78A6-ACB4-44BF-B89E-05D6FEAD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F7A9-EF6C-48F5-9950-2C3F8AB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A07F-69BC-4C4D-BFA5-1F448A4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C34A-0550-4F9B-BB37-53110DB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F27F9-D55E-45A6-9340-3A1533C9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D4A1-5E25-4632-99CE-2A4C804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5CF-6066-405A-8AFF-6495D30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B447-5A30-4B3F-B2FD-F324B33A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21681-F796-460A-9D03-DA96D33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C9A6-86FF-4133-8772-1171966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A1D95-1A91-4D79-A06B-62D1A55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4B450-28F8-4E34-8832-62182DB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6F00-F011-44F3-B8E3-79998864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C231-A9C0-4531-B6E7-8778FEF6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53DB7-DB4B-4ABE-B185-4F85F87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540A7-3FE9-4E85-87D0-DAAE9A6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8B1B6-36B2-47FD-AE6C-2F4B497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130-9FB2-4222-919C-75EC0EFD54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CFEA-08F8-4CF0-97D7-E21398227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4F7-0E35-4CCE-8737-213BE8581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CD73-F7A7-4BFD-B5BF-F773D56DD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E86-CAA2-4E90-8004-781A3A74CE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DFD5-F556-4A02-A010-57813FA31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ABC-D664-4B1C-8017-A5125423C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BC3-AF72-4D5C-9E7C-E281DB082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2D5-1FB3-45A9-A94F-D887A48A5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E7AC-9CAF-455C-B76F-1373B6C872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CEDD-780E-43E7-8A08-0DD9CE058B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7E7-B90B-4B8D-A806-E9B5C2D76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6FA-6AE0-4C9B-BED6-D21E695E3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727-0AB3-4699-870B-62F187C72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0D85-8BDC-4F64-B0C2-BBAD7C2AED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1B0D-C2C7-4F4A-B850-F1734B2433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12C-E2D2-4162-BFDA-FA47A9F66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17CE-D93A-4D8B-8305-5E7E1E4913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AF6-A81B-4E5A-9FB0-AEAD24FF2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F1FC-C362-4571-B065-B6C561B2E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DD0-42D7-46C2-95B1-D07E79EB1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FAAA-AE25-4E2F-B83C-7CB3716F6A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9D6-6701-459E-B503-CB37A64DF7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4D0-0BA6-4055-819B-92301FDAD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EEE2-606E-4BFF-9BB4-4A35E5E9C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AABD-00E4-40C1-B9DA-2FB1E0E65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AAD-6B1A-45E7-B685-83BD5FF4E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9954-660E-4656-8B45-D8A347897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CFC-B653-4156-8913-59F9C98C9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51E-3B00-41F1-A976-8B2C41E51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03B6-FAFA-4C0B-8970-B25EC5FFC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BFA-3019-4CDA-8DA8-2CCC3A23A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2F26-C546-4A35-B3CA-CC607F473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7C2-1B23-4724-9EBC-D72A3F7D9C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E31E-27E3-4F1C-AA1E-52A524215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CF16-12A3-46BC-8290-F86A54ACD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8FF1-D674-499E-862B-3FF39DDF4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074-0812-4EE0-B110-52C1AD146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B04-16A8-4BC0-B494-D22D2D0E2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E73B-E03E-4B29-A16F-3FEC9E760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3C33-D0D1-4F9B-842B-4B1AE7651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9AF-231D-4E50-AA87-F5C2BDA07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47720" y="3114720"/>
            <a:ext cx="7647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14480" y="1566720"/>
            <a:ext cx="8915400" cy="37245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314280" y="2424240"/>
            <a:ext cx="8515440" cy="2009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43000" y="1633680"/>
            <a:ext cx="8656560" cy="35906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2195640" y="283356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843280" y="3151080"/>
            <a:ext cx="129708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3348000" y="3851280"/>
            <a:ext cx="129708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6948360" y="4168800"/>
            <a:ext cx="165600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107928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500040" y="1762200"/>
            <a:ext cx="8142480" cy="33336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403280" y="2070000"/>
            <a:ext cx="64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2987640" y="2411280"/>
            <a:ext cx="64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3419640" y="2752560"/>
            <a:ext cx="64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5148360" y="2762280"/>
            <a:ext cx="64764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6227640" y="2762280"/>
            <a:ext cx="648000" cy="2937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1908000" y="3429000"/>
            <a:ext cx="64800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8"/>
          <a:stretch/>
        </p:blipFill>
        <p:spPr>
          <a:xfrm>
            <a:off x="5508720" y="3443400"/>
            <a:ext cx="647640" cy="2934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9"/>
          <a:stretch/>
        </p:blipFill>
        <p:spPr>
          <a:xfrm>
            <a:off x="3564000" y="3780000"/>
            <a:ext cx="936720" cy="2934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10"/>
          <a:stretch/>
        </p:blipFill>
        <p:spPr>
          <a:xfrm>
            <a:off x="6227640" y="411480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1"/>
          <a:stretch/>
        </p:blipFill>
        <p:spPr>
          <a:xfrm>
            <a:off x="2124000" y="4456080"/>
            <a:ext cx="576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9520" y="1352520"/>
            <a:ext cx="8724960" cy="4152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1187280" y="200808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2830680" y="2019240"/>
            <a:ext cx="115236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2759040" y="2349360"/>
            <a:ext cx="194472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1403280" y="3040200"/>
            <a:ext cx="2448000" cy="293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1042920" y="371628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7"/>
          <a:stretch/>
        </p:blipFill>
        <p:spPr>
          <a:xfrm>
            <a:off x="3564000" y="3716280"/>
            <a:ext cx="17287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8"/>
          <a:stretch/>
        </p:blipFill>
        <p:spPr>
          <a:xfrm>
            <a:off x="1332000" y="439884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9"/>
          <a:stretch/>
        </p:blipFill>
        <p:spPr>
          <a:xfrm>
            <a:off x="3780000" y="4394160"/>
            <a:ext cx="2520720" cy="293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0"/>
          <a:stretch/>
        </p:blipFill>
        <p:spPr>
          <a:xfrm>
            <a:off x="2124000" y="5075280"/>
            <a:ext cx="1656000" cy="2937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1"/>
          <a:stretch/>
        </p:blipFill>
        <p:spPr>
          <a:xfrm>
            <a:off x="5148360" y="5075280"/>
            <a:ext cx="1944720" cy="2937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2"/>
          <a:stretch/>
        </p:blipFill>
        <p:spPr>
          <a:xfrm>
            <a:off x="8028000" y="5065560"/>
            <a:ext cx="792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3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